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42A0-16C4-489B-92DD-F79DBC19D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0CF2-243F-43F3-9A0F-058EEAB6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9FCD1A-6069-4A83-A9A8-1366ADB8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A497F9-AD2B-473F-A718-EC6ACE8F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A823CF-BE16-4B3F-B10E-56ADE985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247318-E467-4029-8D4E-936460D0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0E63FF-556B-4C8D-B69C-2E78E613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BC802F-171B-44F2-B9AD-0DD85DA7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1C403-8A14-435E-ACD0-4F6CFBC7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3215D-10B5-4E8B-895B-BC6084382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7607E4-5153-43F9-8811-100F6F4F2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0C4C79-64A2-4F67-927C-8C3EEB7A7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69AC-E1EF-4D26-A2DA-17A93437A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79117-9092-4A4C-8A2B-35A8B2EE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403988-7BA0-4244-A99E-0B3E1426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D6D726-A9F4-42E7-8EBF-3B36FDA3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1F474F-2749-489B-9356-8D3B0767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E2943D-C9A3-4C08-9219-88F3722D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7AB84F-B646-4B82-A155-AC7685DE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124ACC-1CCE-473B-97D5-792B9E13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815A70-5ECE-44CD-AC0B-35FCABAF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02C1D8-0132-44B4-BE2D-83FE4277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CCB978-6AC8-44D2-974F-FA3B3A21E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5E1B-4EC4-4F0B-8809-AFA54AD3C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B74C7F-7339-4AE3-81CF-CD6AAFF74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B1173-1567-49DE-B412-FAF7591D7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884DF-78C7-4B13-A5D7-9CFC1B6C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B2522-9743-481E-B4AE-8A95B22E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C9830D-C698-48A1-8710-0BCF9B2D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498F7-D2EB-4B64-8AB8-C1089659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D591C9-3CF9-4E48-9E71-35FDEA7E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F27E4-36D1-46B4-95AA-5FED12CC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41141-9A83-4CF4-8283-D8A1E983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C2A13D-307C-4BDD-82C7-D5B32333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668D3-3674-4EFF-B76F-A4341B092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4485AF-CEF9-4BC4-AA15-6E8FC802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AAC628-BD18-4C04-90C2-102FEB5D5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AC242-0E2A-4388-BB40-D1962242F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8C33ED-776A-4C4E-A7FE-A7168FAEC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E4D495-387A-4F38-A0FF-016F0136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ACCBFC-70C6-432B-8BBD-5A7EA9A1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6CCE8B-F25F-4BC0-ABC5-95B7C20D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7DFF35-4DC4-46EB-9484-2417CA4A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A6FEA9-2CEC-45AB-9130-BCF70BD5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12EBD0-BF0C-434B-8C66-9D8C85D7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A5FC-DD74-427C-8374-11E8002E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B5F6D7-0D0F-4F04-BD90-86587957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C0C230-1C44-4C8F-809C-8EC88B9C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8CFF61-5D1E-4A18-99B4-5124575F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1E32AA-38D1-4A77-9309-C5253FD5F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65864E-B648-462F-94A3-7D6778D98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784B59-A0E2-44B1-90D7-361EAA6B0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E0E25A-C626-403A-8E3A-39369859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3420A7-5454-440B-AB9D-710BA7ED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AF8B4A-C573-4039-92D0-D73A338E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CF99A6-9930-46E5-82B8-8924DA30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D7DF4-B20E-4850-A4C8-FF76B918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8EAE24-A6BC-4F88-881C-BCFC3C82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60F32D-8189-485B-B5CC-222FCE53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0F052C-D16D-4BDE-9D09-D8DF750F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F64C1C-DF1A-4D6D-A9A7-4F702B95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371E6B-881C-4324-81B7-B15149A2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699652-EAE0-4843-81DD-7EDA0EBD2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9CE562-1431-4773-94F9-4ED3368D0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3A6659-35A4-4341-85B8-639FD6580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A876C6-13E8-4C5F-B02F-02867E69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11EF80-BCE8-4BF7-8735-E7A71F61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686A-B5A6-4AB4-8EA7-9CB33AD0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5BD1D3-4B32-468C-A5D4-7EF370DA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EEE294-BCCC-4A53-AF79-F52FBA6C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BA8521-E78E-43A0-BDA7-A9AF220E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66CE71-B30A-4ACE-9734-4507A825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A368F7-19AF-43B9-838D-0787091D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3345B2-D156-44FB-8C64-E6120102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0B3D6E-F829-4EDF-9B24-42B1DAE3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92E752-3169-48C4-AB83-D6C1941A7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2FA5F4-B378-44AD-A446-70AECC4B9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9BA6CD-24A8-4DC4-BEBF-B0F78A5E8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A06B-67BB-4AA0-AAEC-0DC41DA3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A58317-307E-40C7-A2F5-B5B348EA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BD52BA-8159-4362-9F0B-1E053D28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5794D8-F04F-4DA6-B28C-6F9CED87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862041-B1CE-405D-B5EC-1960B0B1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0F3A98-6167-49CA-BFF1-F70BDB4B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4BEB76-BF58-4D8D-AAF2-E9CF5B8C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70710E-B71B-4516-9267-B0B8D41D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26710A-6A29-475E-A4FE-6FAD501A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AE3005-7860-46E2-948C-C06E2922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E5CEFC-8045-4BA9-95ED-0D225E741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B376-1D2E-42DD-A980-89723D064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3B3819-A2CE-43C1-8EDA-A7F856311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C83981-9670-4605-9D29-C2E64F979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5B6D66-C0AE-4A17-BCBB-A0F22FB1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F857FC-9D56-4AFD-80C0-33ADD438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9DDB17-A5BF-442E-B150-026DF805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03D9DC-0536-4341-B0C3-E3F6554E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AAC2B7-0491-44EB-86F1-10500A41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C4C4A1-5F42-417A-96E3-259ED5CB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83E3F8-98F0-44D5-9B0C-CD2FB63A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75745B-8003-4DE7-9623-3509DEF5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3FF5-420B-477B-B9A5-B6846105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CC13D6-FDA8-4BE3-87B6-EF97604A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6D5A00-E38D-45AF-9869-A60113DD0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E8FAAB-9302-4D03-AEF4-3646B464F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AA3405-87B6-4ACF-87BB-927D46DFC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AD19E7-23C7-476E-BE32-34ED262C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F807FD-4CC7-4665-9113-F1626FF2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F58A7A-F6F6-475F-A1EA-B1194C07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AA979B-C28B-4BD9-B764-45DD326A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B8C65D-B62A-44A0-BDA6-A8AB080C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2AC023-B44C-4A95-9AB7-3BE9E937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1026-1BD9-45A2-8C41-3A386230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E746-B68E-4C05-8D43-982AA47E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BF6F56-AC30-47A5-AFC9-2CD69DFB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3BCC5B-3F9D-4797-A8D2-C5814B96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2BE45B-BD83-4D87-9C49-F58DDAB6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FC2AF6-6331-4712-99F1-9E2F64ED1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E8F563-6E99-4047-91F9-53A161C6C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7A4C0D-7E60-4C15-BD15-518D52F69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5CAF00-9204-40D0-80EC-E93D0CFC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10D15B-194B-4388-A88F-B72F3DBC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D4A0C2-4C4F-46AA-9F14-A1C2FE4A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498ADB-13BB-4C87-A9CF-0F283EC3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F8DA-E2CB-4F3E-883E-E86489C4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A34E93-C751-43A3-BE61-C1F7FFC8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4F1160-949F-480F-AB0A-CDC97E2C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F17177-76BB-491A-B231-679D539D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8B678F-A1DA-484E-B958-B37BF13D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1FBB1D-DBBB-493B-8286-BF4122C5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62D4D5-DE7E-4D50-8566-FE5719B5F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A23303-3A16-428A-8FC7-F4879DA75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F7B654-69A0-4FD4-A9F5-B9BCCB867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423780-FADE-4544-9F90-ABDEF4ED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9CE646-DDCA-49FA-A8C5-27937DDF2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D9EF-A2D6-41E4-B25A-7236743F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BE0DDE-CD21-4349-9530-6CC4CF00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C4910A-520B-48B2-8045-991D499C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F35B16-34C8-4EBE-877A-FA4A7034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CB9071-2776-4A2B-8D13-D0B9A716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57E0C2-0A6D-4982-A48F-EB3F9909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D84CFC-0F55-4CEC-9101-5A535087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9E531E-A7B3-4EA6-8476-6BECEBEE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5D9C0C-8670-46C0-A570-9C7A306BF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119E69-F386-4B32-90C2-BA2DB5852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72C930-3310-47C4-BE2E-EF17AE0BD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1D6F1-FF03-4E57-993E-3ED5D56CA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BAE94B-FF1B-43DB-80CC-9B39DA36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136AB0-66B9-4CB4-A9FF-35557672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EC7C94-F5B7-4EEF-B73E-B7BA5BBA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B1AFEC-8B31-4B5D-8041-7454952F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289570-1320-4151-8649-F8AF18A0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525A38-595C-42E5-B909-E2E9BCA5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83EB3F-AE12-4FA3-BA0F-38D0B028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62AFE9-69B6-44CC-8118-1CD84C72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C7E5DC-7880-43B3-9338-39365DCA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9F36AE-27E2-465C-BC53-CB528B7A2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2E30-88DC-4CD7-BC96-042EE5E38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4ED2AD-8DD1-4965-9728-ED0B48F90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B78072-1787-4B5F-818D-B1E16B66D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7E25DE-26BB-45B9-9DEB-EE765F27A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CB7560-1A6F-46E8-A0B3-DA8883CA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85C5DA-B9F0-418E-8E18-2A022E75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901999-158A-486A-9FCE-56BCCCD2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4A0A4E-844E-4B6E-B1F4-36C7DC06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91D108-3376-4530-BB03-D6481799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22D8F1-71D6-4DD3-9FD6-9FB565B6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83C545-212A-4FAB-8CB1-FE0CC405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398EC-ED6E-4990-B310-1EF05FE9B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3FCCC7-20FA-421D-8143-D7F5A260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2C31E9-5CD4-4B1B-ADB2-91860D758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6D71A5-E42D-4129-95B9-9C7AA63AF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8C6C4-C126-4CDA-A1F4-EA9FEA6F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30B47-3B7A-48C4-980C-CCCCCCD4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14EF5-DE0A-4063-8F1C-912E244E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F707B-7CD4-4FA2-AF37-C060F42F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387F-CB75-4F6B-873D-30D39212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2BEAD-1844-4F90-B661-BED7A219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E63D4-BE87-4131-972F-C74FDC7A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B05CF-D60F-472D-832B-97A25049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06AD2-EDFF-4A09-814A-A8B369D5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B3A56-74A9-4969-AA69-B376DDF2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3ABBC-D863-477C-B527-8C7D32C54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F2495-92A7-4406-9D08-2830081AD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D80D4-EED1-4395-AEA8-78824CE94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67C64-6FCD-49DE-85F4-F350BE5B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76078-BD74-42F9-9A33-3ECB655B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694A-5AE9-4183-A6CF-90E8106D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9F54B-D6C2-41DC-83F9-F7595AEA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6848A-8A30-44B7-8D84-1EAE5D52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035D6-5BA9-4C61-A7BC-0A0D1A5A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3CFD6-0278-4442-9365-A49FD822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69F8E-6729-4517-ADD5-32149F45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D5C75-63C7-4339-8DD3-B8AFAB43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2F358-F41F-44C9-9A46-3BEEC56F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7BF5C-5098-484C-BA04-1FF3D643C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A2307-A147-4F2F-82A0-0562A1701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60828-43A9-4CDF-B05B-1F3E129C0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473B-231E-4644-B92E-922FD1D7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FCB52-74EE-4932-89B7-55FDA1B0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96C67-AB1D-45EE-847D-A21AD4E7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83416-4077-418A-AEDA-929D4618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0A1AF-16DA-4596-A97A-83FF0B8B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93532-5169-445E-A2C1-1BD01077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5EB14-926F-4E44-AD7D-A024D2B1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DA196-1D2B-4D0C-98EE-15A79ACD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ED434-CE94-4747-A358-616D8B21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EC830-A265-44AB-B831-77B99390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514D7-6537-4F15-8212-F97F316A9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A13F-EA7B-4BCB-8CDC-7C723DB7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0B025-3070-4C7D-BC2F-42D04EE3B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7BC18-659C-456C-9B0D-8AE44535D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806F8-27B6-479E-8E2A-0E15A230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528B9-9E3A-4AB7-9B7A-B48B74EB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A34A5-4D17-4010-9616-6E9171EF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0086E-FCD1-45D1-B93F-1270394D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9CD73-AB40-4E4A-9BD9-6FC9FC8D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E86F5-7E1D-46A6-840F-4342DB05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73B24-04A5-4011-B985-C3BB442C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FD457-2875-434A-A035-16094D45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514A-4766-449D-8630-B3307BE2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15922-CBE6-4D58-B635-64FF3DB6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89FCF-AD7B-47B9-890D-804C6D93D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E1242-8D17-4626-AAC2-8979C419D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56B0C-481C-49D6-9169-C8DE4C425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CB051-3E6A-442E-8BEE-8BFA10E6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53D51-8FB5-410D-80B9-F6BA554F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31B45-8C3D-4AAF-9825-79F03791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3AD7D-6BAB-482D-AAAD-0D6FE22A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CFCAF-5C78-4213-856A-5062B117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F0E59-8099-4DE7-8772-ED43849C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4CED-CA90-46AC-AD51-B2E2BAF4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796C4-3F30-475B-BD77-EF1DCFA0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5BE36-E9EB-467D-AC7F-DF624056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9E014-E186-4B5F-A927-25B0C235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C9457-425C-42E4-8776-21E5A04A6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BCFFA-0106-45B5-9F31-F66A1BAB5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C0B0A-B5BF-4074-9CC8-4E9A385FB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34BA0-8DF7-4B5B-ACF4-3DD74EE1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38EFE-118D-48F1-8C01-578738EE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01EA5-FBC2-40E4-9E2A-C89E39DA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6737D-6AC7-4827-ACE7-F38611AC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BEFD-207A-4813-8F24-237E7299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B92CA-A7F7-4391-B859-CD87EE55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4FEAA-1E79-4359-AB9A-F1496250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DAD3E-82C3-4A87-8FC6-412735B7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6E601-2536-4F23-8D47-E7F29429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E666F-0AD9-4E31-B2CF-4771E0E3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1215E-23CB-4B43-880B-0A1881E36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B9644-880E-49E1-8326-79D7E3714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362EB3-4399-49F8-9122-EE5C5C436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057D1D-12A4-46D6-BE52-6A383566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1DB6E9-E9C6-48F4-B8AC-A7B722F0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48F2-E5F3-4A4F-9454-9ECC443C1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1EB5-0C97-4EF8-B27E-D2B8F871A4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9FB3-1291-471C-B0E6-5EC9917928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1327-212E-4AE6-89E8-3090351958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72F2-E0C4-41CA-AE86-9F1FDA9C6D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4B7D-FE8E-4AD2-BDED-D53AA8BE23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8C70-63D7-4F6B-AFDA-994F01FCB2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52B8-E8ED-42FC-9C7B-186A90EC91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22E2-7CC8-4364-B5AA-4D708DADA7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4FA5-EA0C-47FD-9366-B612B88498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0D3F-F574-4C90-9837-722505321C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4796-BBFE-4BD4-BDAE-51E9665989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0D64-DDF2-4EA2-97FE-DE6FD8EABD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BFA4-879A-462F-9C30-F79A8B7DBA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50C7-61D9-40BA-BBD3-1ECDE1EC6C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B221-D225-497E-932F-F4157E28CB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3B03-EAA6-41BE-B32F-F78B19AA7C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35A3-ADF1-4960-B628-5E74D6DD74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5DBD-E1B4-4F44-8362-9A9A8E7BB4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38F0-C57F-4A57-ADBE-7B60A7230B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058D-45DA-453D-941C-AE64F79123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FEEC-A172-46F1-B888-AF9912081A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625C-048F-4757-935D-DCE4FB036C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D10E-1722-4516-ABC9-EE7F29AB2F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9A26-5D5E-43F4-BD0B-DFB755C9E8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0494-8FA4-4C35-B4FF-CF6DBD1668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A7F4-A5CF-4873-946D-B160C768FE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D991-DC81-49B4-8BF9-876AE9901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BA68-8F77-42E4-AFE8-CE296C89D9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6AA9-5531-4EBB-B56F-5846230158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21A8-D9B5-49F1-81FE-A10B336FBE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4EAB-24ED-48CA-8BCA-86907D9E9E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052F-CA89-458B-BCDE-17F26F9D62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6372-EDCF-4104-A3D8-A7792133F2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B902-7A66-40B2-AC60-39C3B861A6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549D-5AF1-4A9F-B869-C24F2F8156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839A-5666-4B37-BCBF-3DB9BA23E1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E2E9-052A-493C-8BBB-913FF71B2F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EB8A-41F8-45F6-A8DD-460475A609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A428-8AC6-4717-8F7B-4A7E25D8DF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0" descr=""/>
          <p:cNvPicPr/>
          <p:nvPr/>
        </p:nvPicPr>
        <p:blipFill>
          <a:blip r:embed="rId1"/>
          <a:stretch/>
        </p:blipFill>
        <p:spPr>
          <a:xfrm>
            <a:off x="3938760" y="3143160"/>
            <a:ext cx="12664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Picture 2" descr=""/>
          <p:cNvPicPr/>
          <p:nvPr/>
        </p:nvPicPr>
        <p:blipFill>
          <a:blip r:embed="rId1"/>
          <a:stretch/>
        </p:blipFill>
        <p:spPr>
          <a:xfrm>
            <a:off x="409680" y="1076400"/>
            <a:ext cx="8324640" cy="4705200"/>
          </a:xfrm>
          <a:prstGeom prst="rect">
            <a:avLst/>
          </a:prstGeom>
          <a:ln w="0">
            <a:noFill/>
          </a:ln>
        </p:spPr>
      </p:pic>
      <p:sp>
        <p:nvSpPr>
          <p:cNvPr id="1052" name="矩形 2"/>
          <p:cNvSpPr/>
          <p:nvPr/>
        </p:nvSpPr>
        <p:spPr>
          <a:xfrm>
            <a:off x="2786040" y="1071720"/>
            <a:ext cx="60008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3"/>
          <p:cNvSpPr/>
          <p:nvPr/>
        </p:nvSpPr>
        <p:spPr>
          <a:xfrm>
            <a:off x="2106720" y="1496880"/>
            <a:ext cx="6465960" cy="3142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4"/>
          <p:cNvSpPr/>
          <p:nvPr/>
        </p:nvSpPr>
        <p:spPr>
          <a:xfrm>
            <a:off x="2071800" y="1879560"/>
            <a:ext cx="2106360" cy="3142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5"/>
          <p:cNvSpPr/>
          <p:nvPr/>
        </p:nvSpPr>
        <p:spPr>
          <a:xfrm>
            <a:off x="3929040" y="3000240"/>
            <a:ext cx="4714920" cy="3146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6"/>
          <p:cNvSpPr/>
          <p:nvPr/>
        </p:nvSpPr>
        <p:spPr>
          <a:xfrm>
            <a:off x="2103480" y="3414600"/>
            <a:ext cx="6540480" cy="3002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7"/>
          <p:cNvSpPr/>
          <p:nvPr/>
        </p:nvSpPr>
        <p:spPr>
          <a:xfrm>
            <a:off x="1992240" y="3786120"/>
            <a:ext cx="1347840" cy="3142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8"/>
          <p:cNvSpPr/>
          <p:nvPr/>
        </p:nvSpPr>
        <p:spPr>
          <a:xfrm>
            <a:off x="4429080" y="4929120"/>
            <a:ext cx="3214800" cy="3142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3" descr=""/>
          <p:cNvPicPr/>
          <p:nvPr/>
        </p:nvPicPr>
        <p:blipFill>
          <a:blip r:embed="rId1"/>
          <a:stretch/>
        </p:blipFill>
        <p:spPr>
          <a:xfrm>
            <a:off x="500040" y="714240"/>
            <a:ext cx="8239320" cy="57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2" descr=""/>
          <p:cNvPicPr/>
          <p:nvPr/>
        </p:nvPicPr>
        <p:blipFill>
          <a:blip r:embed="rId1"/>
          <a:stretch/>
        </p:blipFill>
        <p:spPr>
          <a:xfrm>
            <a:off x="471600" y="961920"/>
            <a:ext cx="820080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Picture 2" descr=""/>
          <p:cNvPicPr/>
          <p:nvPr/>
        </p:nvPicPr>
        <p:blipFill>
          <a:blip r:embed="rId1"/>
          <a:stretch/>
        </p:blipFill>
        <p:spPr>
          <a:xfrm>
            <a:off x="500040" y="771480"/>
            <a:ext cx="8096400" cy="6086520"/>
          </a:xfrm>
          <a:prstGeom prst="rect">
            <a:avLst/>
          </a:prstGeom>
          <a:ln w="0">
            <a:noFill/>
          </a:ln>
        </p:spPr>
      </p:pic>
      <p:sp>
        <p:nvSpPr>
          <p:cNvPr id="1026" name="矩形 2"/>
          <p:cNvSpPr/>
          <p:nvPr/>
        </p:nvSpPr>
        <p:spPr>
          <a:xfrm>
            <a:off x="1000080" y="78588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3"/>
          <p:cNvSpPr/>
          <p:nvPr/>
        </p:nvSpPr>
        <p:spPr>
          <a:xfrm>
            <a:off x="1000080" y="1571760"/>
            <a:ext cx="42876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4"/>
          <p:cNvSpPr/>
          <p:nvPr/>
        </p:nvSpPr>
        <p:spPr>
          <a:xfrm>
            <a:off x="1000080" y="192888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5"/>
          <p:cNvSpPr/>
          <p:nvPr/>
        </p:nvSpPr>
        <p:spPr>
          <a:xfrm>
            <a:off x="1011240" y="232092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6"/>
          <p:cNvSpPr/>
          <p:nvPr/>
        </p:nvSpPr>
        <p:spPr>
          <a:xfrm>
            <a:off x="1000080" y="2714760"/>
            <a:ext cx="42876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7"/>
          <p:cNvSpPr/>
          <p:nvPr/>
        </p:nvSpPr>
        <p:spPr>
          <a:xfrm>
            <a:off x="1000080" y="346392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8"/>
          <p:cNvSpPr/>
          <p:nvPr/>
        </p:nvSpPr>
        <p:spPr>
          <a:xfrm>
            <a:off x="928800" y="3857760"/>
            <a:ext cx="42840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9"/>
          <p:cNvSpPr/>
          <p:nvPr/>
        </p:nvSpPr>
        <p:spPr>
          <a:xfrm>
            <a:off x="1054080" y="463536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10"/>
          <p:cNvSpPr/>
          <p:nvPr/>
        </p:nvSpPr>
        <p:spPr>
          <a:xfrm>
            <a:off x="1071720" y="5357880"/>
            <a:ext cx="4284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11"/>
          <p:cNvSpPr/>
          <p:nvPr/>
        </p:nvSpPr>
        <p:spPr>
          <a:xfrm>
            <a:off x="1000080" y="6143760"/>
            <a:ext cx="42876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Picture 2" descr=""/>
          <p:cNvPicPr/>
          <p:nvPr/>
        </p:nvPicPr>
        <p:blipFill>
          <a:blip r:embed="rId1"/>
          <a:stretch/>
        </p:blipFill>
        <p:spPr>
          <a:xfrm>
            <a:off x="500040" y="714240"/>
            <a:ext cx="8267760" cy="580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2" descr=""/>
          <p:cNvPicPr/>
          <p:nvPr/>
        </p:nvPicPr>
        <p:blipFill>
          <a:blip r:embed="rId1"/>
          <a:stretch/>
        </p:blipFill>
        <p:spPr>
          <a:xfrm>
            <a:off x="466560" y="1181160"/>
            <a:ext cx="82108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2" descr=""/>
          <p:cNvPicPr/>
          <p:nvPr/>
        </p:nvPicPr>
        <p:blipFill>
          <a:blip r:embed="rId1"/>
          <a:stretch/>
        </p:blipFill>
        <p:spPr>
          <a:xfrm>
            <a:off x="438120" y="1704960"/>
            <a:ext cx="8267760" cy="3448080"/>
          </a:xfrm>
          <a:prstGeom prst="rect">
            <a:avLst/>
          </a:prstGeom>
          <a:ln w="0">
            <a:noFill/>
          </a:ln>
        </p:spPr>
      </p:pic>
      <p:sp>
        <p:nvSpPr>
          <p:cNvPr id="1039" name="矩形 2"/>
          <p:cNvSpPr/>
          <p:nvPr/>
        </p:nvSpPr>
        <p:spPr>
          <a:xfrm>
            <a:off x="857160" y="178596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3"/>
          <p:cNvSpPr/>
          <p:nvPr/>
        </p:nvSpPr>
        <p:spPr>
          <a:xfrm>
            <a:off x="857160" y="292896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Picture 2" descr=""/>
          <p:cNvPicPr/>
          <p:nvPr/>
        </p:nvPicPr>
        <p:blipFill>
          <a:blip r:embed="rId1"/>
          <a:stretch/>
        </p:blipFill>
        <p:spPr>
          <a:xfrm>
            <a:off x="476280" y="1328760"/>
            <a:ext cx="8191440" cy="4200480"/>
          </a:xfrm>
          <a:prstGeom prst="rect">
            <a:avLst/>
          </a:prstGeom>
          <a:ln w="0">
            <a:noFill/>
          </a:ln>
        </p:spPr>
      </p:pic>
      <p:sp>
        <p:nvSpPr>
          <p:cNvPr id="1042" name="矩形 2"/>
          <p:cNvSpPr/>
          <p:nvPr/>
        </p:nvSpPr>
        <p:spPr>
          <a:xfrm>
            <a:off x="928800" y="1357200"/>
            <a:ext cx="4284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3"/>
          <p:cNvSpPr/>
          <p:nvPr/>
        </p:nvSpPr>
        <p:spPr>
          <a:xfrm>
            <a:off x="928800" y="3643200"/>
            <a:ext cx="4284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Picture 2" descr=""/>
          <p:cNvPicPr/>
          <p:nvPr/>
        </p:nvPicPr>
        <p:blipFill>
          <a:blip r:embed="rId1"/>
          <a:stretch/>
        </p:blipFill>
        <p:spPr>
          <a:xfrm>
            <a:off x="428760" y="857160"/>
            <a:ext cx="8381880" cy="5695920"/>
          </a:xfrm>
          <a:prstGeom prst="rect">
            <a:avLst/>
          </a:prstGeom>
          <a:ln w="0">
            <a:noFill/>
          </a:ln>
        </p:spPr>
      </p:pic>
      <p:sp>
        <p:nvSpPr>
          <p:cNvPr id="1045" name="矩形 2"/>
          <p:cNvSpPr/>
          <p:nvPr/>
        </p:nvSpPr>
        <p:spPr>
          <a:xfrm>
            <a:off x="2786040" y="2786040"/>
            <a:ext cx="2357640" cy="311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3"/>
          <p:cNvSpPr/>
          <p:nvPr/>
        </p:nvSpPr>
        <p:spPr>
          <a:xfrm>
            <a:off x="6715080" y="3571920"/>
            <a:ext cx="20001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4"/>
          <p:cNvSpPr/>
          <p:nvPr/>
        </p:nvSpPr>
        <p:spPr>
          <a:xfrm>
            <a:off x="1643040" y="3929040"/>
            <a:ext cx="7000920" cy="311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5"/>
          <p:cNvSpPr/>
          <p:nvPr/>
        </p:nvSpPr>
        <p:spPr>
          <a:xfrm>
            <a:off x="1785960" y="4321080"/>
            <a:ext cx="7000920" cy="308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6"/>
          <p:cNvSpPr/>
          <p:nvPr/>
        </p:nvSpPr>
        <p:spPr>
          <a:xfrm>
            <a:off x="1832040" y="4703760"/>
            <a:ext cx="700092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7"/>
          <p:cNvSpPr/>
          <p:nvPr/>
        </p:nvSpPr>
        <p:spPr>
          <a:xfrm>
            <a:off x="1897200" y="5078520"/>
            <a:ext cx="314316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37:00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